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7E8-4E06-4E1A-8246-E093DC5B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178-532A-4AEB-B914-843ACEE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4A8-EBB8-4718-AEE4-B1435715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843-8050-4C4F-AF6E-CFD0D2D2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BFA-2681-485F-B7C6-B9022D97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232-B992-40EE-AE67-EE99198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DF8-8258-4B9B-A9EE-9BA8E18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C0A-C307-4358-AEE7-D1CC60E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9FC-4958-418B-8334-ACC0B62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687-CAF7-4538-9A13-217045A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02A-60A6-4298-A23F-CB51F364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0E3-28AC-47E6-B7DA-5247672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5E11-227A-46F3-B07F-1DF706A1F30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9116-1814-49FF-A447-ECF7EA6104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hyperlink" Target="file:///1%20&#1084;&#1080;&#1085;&#1091;&#1090;&#1072;.ppsx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34.xml"/><Relationship Id="rId20" Type="http://schemas.openxmlformats.org/officeDocument/2006/relationships/slide" Target="slide35.xml"/><Relationship Id="rId21" Type="http://schemas.openxmlformats.org/officeDocument/2006/relationships/slide" Target="slide36.xml"/><Relationship Id="rId22" Type="http://schemas.openxmlformats.org/officeDocument/2006/relationships/slide" Target="slide37.xml"/><Relationship Id="rId23" Type="http://schemas.openxmlformats.org/officeDocument/2006/relationships/slide" Target="slide38.xml"/><Relationship Id="rId24" Type="http://schemas.openxmlformats.org/officeDocument/2006/relationships/slide" Target="slide39.xml"/><Relationship Id="rId25" Type="http://schemas.openxmlformats.org/officeDocument/2006/relationships/slide" Target="slide40.xm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2530440"/>
            <a:ext cx="6222960" cy="1944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2664000" y="665280"/>
            <a:ext cx="3870000" cy="146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28760" y="6215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нькина Татьяна Семеновна, 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гимназия №1 г.Комсомольска-на-Ам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603520"/>
            <a:ext cx="8016840" cy="19447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285560"/>
            <a:ext cx="8329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граммистка Клава Мышкина в рабочее время ищет в сети кулинарные рецепты. Yandex дал ей 983 ссылки, а Rambler — 736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сколько Yandex вреднее Rambler’а для производственного процесс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285560"/>
            <a:ext cx="80438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акер Вова Крутой написал программу, подбирающую пароль из 8 символов за час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За какое время Вова Крутой подберет забытый пароль из 32 символов к своему собственному компьютеру, на котором находится единственный экземпляр программы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57120" y="713880"/>
            <a:ext cx="8329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Юзер Вася Чайников решил приобрести себе компьютер. Новый компьютер стоит в фирме 1000 у.е. Но, поскольку у Васи уже был блок питания, он решил докупить остальное и собрать компьютер самостоятельно.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Он купил материнскую плату за 100 у.е., процессор за 200 у.е., винчестер за 150 у.е и монитор за 300 у.е. Сколько у.е. сэкономил Вася Чайников, если на третьей секунде работы его блок питания сжег все остальные комплектующие?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  <p:sp>
        <p:nvSpPr>
          <p:cNvPr id="66" name="Багетная рамка 4">
            <a:hlinkClick r:id="rId4"/>
          </p:cNvPr>
          <p:cNvSpPr/>
          <p:nvPr/>
        </p:nvSpPr>
        <p:spPr>
          <a:xfrm>
            <a:off x="3286080" y="5143680"/>
            <a:ext cx="2286000" cy="785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2530440"/>
            <a:ext cx="622296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3"/>
          <a:stretch/>
        </p:blipFill>
        <p:spPr>
          <a:xfrm>
            <a:off x="2664000" y="665280"/>
            <a:ext cx="3870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Arial"/>
              </a:rPr>
              <a:t>Назовите имя текстового файла, который, как ни удивительно, никто никогда не чита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1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тот знак стал своего рода уникальным символом эпохи Интернета. Стоит также отметить, что на старых печатных машинках его не было, а появился он только с развитием сети Интерн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4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1979 году, 12 апреля Кевин Маккензи, один из апологетов «эмоциональных» компьютеров, обратился в «Message Services Group» с письмом, в котором предлагалось включать в «сухие» компьютерные тексты некоторые символы, обозначающие эмоции. День чего отмечается 12 апреля, согласно этим факта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77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граммист попал в армию. Какой вопрос он задаст офицеру, давшему команду: «По порядку номеров – рассчитайся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0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371520" y="2530440"/>
            <a:ext cx="867564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 какой компьютерной программе идет речь в песне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н мне дорог с давних лет и его милее нет – этих окон негасимый цве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3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гда появился манипулятор «мышь», то для него в русском языке использовалось некоторое время название по имени персонажа известной русской сказки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азовите имя этого персонаж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86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гласно Книге рекордов Гиннесса, в Германии действуют самые строгие правила для создателей компьютерных игр. Например, персонажи, которых по ходу игры убивают, обязаны иметь «максимально отвратительный и отличающийся от человеческого облик»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что, согласно этим правилам, должно быть в этих компьютерных играх только зеленого цвет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334360" cy="1244880"/>
          </a:xfrm>
          <a:prstGeom prst="rect">
            <a:avLst/>
          </a:prstGeom>
          <a:ln w="0">
            <a:noFill/>
          </a:ln>
        </p:spPr>
      </p:pic>
      <p:sp>
        <p:nvSpPr>
          <p:cNvPr id="89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чему на компьютерном жаргоне процессор называют камнем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92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ибор, приспособление для очищения жидкостей и газов от твердых частиц, а также условие, по которому производится отбор записей в базе данных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798040" cy="1244880"/>
          </a:xfrm>
          <a:prstGeom prst="rect">
            <a:avLst/>
          </a:prstGeom>
          <a:ln w="0">
            <a:noFill/>
          </a:ln>
        </p:spPr>
      </p:pic>
      <p:sp>
        <p:nvSpPr>
          <p:cNvPr id="95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сшифруйте ребус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858160" cy="124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6929640" cy="3539880"/>
          </a:xfrm>
          <a:prstGeom prst="rect">
            <a:avLst/>
          </a:prstGeom>
          <a:ln w="0">
            <a:noFill/>
          </a:ln>
        </p:spPr>
      </p:pic>
      <p:sp>
        <p:nvSpPr>
          <p:cNvPr id="99" name="Багетная рамка 5">
            <a:hlinkClick r:id="rId3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сшифруйте ребус и укажите, что это за термин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214280" y="3143160"/>
            <a:ext cx="6858000" cy="2840040"/>
          </a:xfrm>
          <a:prstGeom prst="rect">
            <a:avLst/>
          </a:prstGeom>
          <a:ln w="0">
            <a:noFill/>
          </a:ln>
        </p:spPr>
      </p:pic>
      <p:sp>
        <p:nvSpPr>
          <p:cNvPr id="103" name="Багетная рамка 5">
            <a:hlinkClick r:id="rId3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остое вещество, неразложимое на составные части, а также единица массив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06" name="Багетная рамка 5">
            <a:hlinkClick r:id="rId2" action="ppaction://hlinksldjump"/>
          </p:cNvPr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формулируйте пословицу по блок-схеме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214720" y="2428920"/>
            <a:ext cx="5425920" cy="3571920"/>
          </a:xfrm>
          <a:prstGeom prst="rect">
            <a:avLst/>
          </a:prstGeom>
          <a:ln w="0">
            <a:noFill/>
          </a:ln>
        </p:spPr>
      </p:pic>
      <p:sp>
        <p:nvSpPr>
          <p:cNvPr id="110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формулируйте пословицу по блок-схеме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286000" y="2643120"/>
            <a:ext cx="5143680" cy="3686400"/>
          </a:xfrm>
          <a:prstGeom prst="rect">
            <a:avLst/>
          </a:prstGeom>
          <a:ln w="0">
            <a:noFill/>
          </a:ln>
        </p:spPr>
      </p:pic>
      <p:sp>
        <p:nvSpPr>
          <p:cNvPr id="114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530440"/>
            <a:ext cx="801684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00040" y="142884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конце XVII века в России побывал известный итальянский певец Балатри. Он очень заинтересовался русской народной музыкой и даже записал некоторые песни, несмотря на незнание русского языка. Какой способ записи текста придумал Балатри, используемый и сейчас при отсутствии нужной раскладки на клавиатур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17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верие к компьютерам пришло не сразу. Так, в бухгалтериях, получив машинные расчеты зарплаты или премии, тут же принимались за эту работу. За какую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0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Широко рекламируемый газированный прохладительный напиток, обозначающий в информатике элемент графического изображения, перемещаемый по экран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3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акой компьютерный термин английского происхождения при дословном переводе означает «междумордие»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26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Открой окошко – разорю тебя немножко». О чем это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29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реди предков компьютера существует устройство, не имеющее отношения к вычислениям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Что это за устройство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32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з всех персональных компьютеров мира каждый третий находится в этой стран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35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Неумолимая статистика утверждает: две трети тех, кто имеет дома компьютер, используют его в первую очередь для этого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38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сле дефрагментации жесткого диска объем свободного пространства в нем станет больше, меньше или не изменитс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Прямоугольник 3" descr=""/>
          <p:cNvPicPr/>
          <p:nvPr/>
        </p:nvPicPr>
        <p:blipFill>
          <a:blip r:embed="rId1"/>
          <a:stretch/>
        </p:blipFill>
        <p:spPr>
          <a:xfrm>
            <a:off x="-49320" y="133200"/>
            <a:ext cx="9321840" cy="1244880"/>
          </a:xfrm>
          <a:prstGeom prst="rect">
            <a:avLst/>
          </a:prstGeom>
          <a:ln w="0">
            <a:noFill/>
          </a:ln>
        </p:spPr>
      </p:pic>
      <p:sp>
        <p:nvSpPr>
          <p:cNvPr id="141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колько цветов у монохромного (одноцветного)  монитора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44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371520" y="2882880"/>
            <a:ext cx="8547120" cy="1116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реди банкиров с Уолл-стрит стало модным дарить друг другу аквариумы из этих устаревших технических средств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858160" cy="1244880"/>
          </a:xfrm>
          <a:prstGeom prst="rect">
            <a:avLst/>
          </a:prstGeom>
          <a:ln w="0">
            <a:noFill/>
          </a:ln>
        </p:spPr>
      </p:pic>
      <p:sp>
        <p:nvSpPr>
          <p:cNvPr id="147" name="Багетная рамка 5"/>
          <p:cNvSpPr/>
          <p:nvPr/>
        </p:nvSpPr>
        <p:spPr>
          <a:xfrm>
            <a:off x="7858080" y="6286680"/>
            <a:ext cx="1285920" cy="5713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71680" y="571680"/>
          <a:ext cx="8001000" cy="56433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5" action="ppaction://hlinksldjump"/>
                        </a:rPr>
                        <a:t>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6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7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8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9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0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1" action="ppaction://hlinksldjump"/>
                        </a:rPr>
                        <a:t>1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2" action="ppaction://hlinksldjump"/>
                        </a:rPr>
                        <a:t>1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3" action="ppaction://hlinksldjump"/>
                        </a:rPr>
                        <a:t>1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4" action="ppaction://hlinksldjump"/>
                        </a:rPr>
                        <a:t>1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5" action="ppaction://hlinksldjump"/>
                        </a:rPr>
                        <a:t>1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6" action="ppaction://hlinksldjump"/>
                        </a:rPr>
                        <a:t>16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7" action="ppaction://hlinksldjump"/>
                        </a:rPr>
                        <a:t>17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8" action="ppaction://hlinksldjump"/>
                        </a:rPr>
                        <a:t>18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19" action="ppaction://hlinksldjump"/>
                        </a:rPr>
                        <a:t>19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0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1" action="ppaction://hlinksldjump"/>
                        </a:rPr>
                        <a:t>21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2" action="ppaction://hlinksldjump"/>
                        </a:rPr>
                        <a:t>22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3" action="ppaction://hlinksldjump"/>
                        </a:rPr>
                        <a:t>23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4" action="ppaction://hlinksldjump"/>
                        </a:rPr>
                        <a:t>24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ffffff"/>
                          </a:solidFill>
                          <a:uFillTx/>
                          <a:latin typeface="Bookman Old Style"/>
                          <a:hlinkClick r:id="rId25" action="ppaction://hlinksldjump"/>
                        </a:rPr>
                        <a:t>25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162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162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3"/>
          <a:stretch/>
        </p:blipFill>
        <p:spPr>
          <a:xfrm>
            <a:off x="0" y="781200"/>
            <a:ext cx="91868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2882880"/>
            <a:ext cx="8016840" cy="1116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" descr=""/>
          <p:cNvPicPr/>
          <p:nvPr/>
        </p:nvPicPr>
        <p:blipFill>
          <a:blip r:embed="rId3"/>
          <a:stretch/>
        </p:blipFill>
        <p:spPr>
          <a:xfrm>
            <a:off x="2023920" y="665280"/>
            <a:ext cx="50785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0:29:47Z</dcterms:created>
  <dc:creator>Сенькина ТС</dc:creator>
  <dc:description>http://aida.ucoz.ru</dc:description>
  <dc:language>en-US</dc:language>
  <cp:lastModifiedBy>Сенькина ТС</cp:lastModifiedBy>
  <dcterms:modified xsi:type="dcterms:W3CDTF">2013-01-01T03:23:57Z</dcterms:modified>
  <cp:revision>20</cp:revision>
  <dc:subject/>
  <dc:title>Слайд 1</dc:title>
</cp:coreProperties>
</file>